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E5F-55A4-4B3B-BA7A-CD6F64A2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B1E-F831-4E59-BAE5-1A242973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7C8-37A0-48F0-B3B5-F53FC584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64B-C8C0-4869-93E4-5F3B5040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2CEE-145B-4141-8658-D9E7F801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F639-5A0A-4422-86E7-E37F13C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CAB3-5D8F-4206-9843-FEAFE9FD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91E8-E8DC-4C80-B883-B4302838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E073-FD89-438B-A06C-EF2CE854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1836-3B52-45E1-AD8C-3DBC1527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F756-9B37-41CF-9102-27B42FAC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AAE-518F-440F-BA74-6D85ACDD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39A2-CABB-4B4D-8D23-5224DC97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917C-8ED9-4DC9-B3C6-F5991DCF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1EC1-DA37-4969-A921-A9534FF8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CFAB-65C8-4851-884D-4C40E541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0E99-18DD-42EB-9018-F1A83E4D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9FD6-A3C3-4B51-80B9-F15320E1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759F-EA0F-4DA5-A200-1E6B13F9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B5FAE-6F51-4573-A87C-6188C781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90294-BEE5-421A-A114-649E5D8B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EFF97-243A-4DF9-9950-C2138772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F25-570D-424E-9620-17DD4B23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7A07-7996-4599-A7C0-BC51E124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0C2FE-A5CB-4A1C-B258-5688CF15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0EC5-396A-469C-B160-2D8EC68C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765F-A303-4C77-8147-FFC928AA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DCBC8-0BB4-4538-9948-B2659878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46306-2E56-4B43-974A-5D56FBE6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B1B1-52C2-4440-AE99-140C1CAB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89D04-89CF-4AC9-AB92-8275573E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B173-2F38-445F-8AD2-023270C6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CAC14-FE46-4980-9A54-A35A4326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789-340B-4E59-A8FC-1169B973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969C9-0697-4EAB-A451-D036004B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A45C-853A-4E43-B817-9F41264A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550AE-BF4D-4262-9C85-1E8B310C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6A885-1437-4E38-9795-A12E1439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993F-01B5-4638-AFED-7A7DB0F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5CC16-DA71-4192-94CF-73A8979A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3DF4A-2BCD-4491-B4F4-19B677A6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727F-A917-4FF1-8011-447D4022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633D0-589F-45EE-9143-192B8B57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9451-F5B2-48A1-8841-020FF0C7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359-01B8-435C-A594-2FEB3656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F7F0E-7DE1-4302-BF3D-A7B49623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57AAC-FEB2-4888-877B-C1DE2FBE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F7BCF-AFE8-4D5D-91BF-AE77DE56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93934-0656-4B1B-B1C0-BE83EEAA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4864-933B-4B98-BD01-0ABF766E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37365-3670-4999-9520-653999E2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1F1AC-0D64-44A7-9E7F-CEC09F63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C189B-E39C-4E7D-9E93-ABBFCAA3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8A462-302D-436E-9359-676A106A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8A38F-1A64-4A3D-B8C2-9A186668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FA8-C8F8-44F1-99C3-C2851172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16B37-E5AD-462E-8D0B-D91FA228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92A25-E640-476E-BB5F-B64E18F7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E77E0-555F-42E5-99DD-6F0FAF5E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01E1B-4BEA-45BA-B11A-A91CC94A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E72C7-9E38-4D96-A093-D44D3BAE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0C622-C012-4E5B-A68D-042FE0B4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CEEA0-D737-469F-8A3F-A2B0AAC2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38298-FC18-4D95-B72B-4CD44335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45C01-CA08-4B84-A4F7-DB9F3439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9E045-0861-4E17-8AE7-69B50572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6A4-A8F4-4881-A88A-B9BC0BE9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ABFF2-D5CF-439E-B87F-46337E13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3A2B9-9F62-42D0-A469-B500EAB1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0D1D3-AA2D-4F53-8F62-1699C4C1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C6F61-4B65-44F8-9484-361C6369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32C3B-BD88-4EFC-BD9C-87BE9E3A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0285E-354E-4661-B7DC-BA33DC1A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FB549-3366-4D20-81FF-BF3D0339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243A6-A811-4FA1-8F83-EF4BABC1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ACF51-D5FA-4C4B-9A50-E895C17D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22807-F97F-4CDE-8863-5280F881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1D7-C081-4429-879A-1D8831D0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48636-5A70-4950-8BAB-874A737A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7E49D-9359-4630-B94C-7A689F87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B8293-C0F0-4EDB-94AD-42568268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DC620-8213-4D3D-9AAF-15C1184F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4DDCE-69B8-4EAA-B043-C89838DE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7FC-D674-4968-AACC-6B05E55A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3F18-9E25-4CB9-9359-74BD5DC6E2A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2642-AB78-4C1D-A238-D945868E5B1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253D-E174-435D-8FC0-E625C524868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5275-B0A5-47A2-8221-5F6A2085B85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2B76-1BF1-403F-BEA5-053E4FA6339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E72C-5502-480F-BED6-5A201F4D89C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0E40-0C42-4FBC-93F4-BFE6747701D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108240"/>
            <a:ext cx="808992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ómo te llama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De dónde er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ómo está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ómo se escribe ____ en españo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l es tu número de telefono o celula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ndo es tu cumpleaño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Qué hora 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A qué hora es tu clase de _____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ntos años tien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ómo se dice _____ en españo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A  qué hora es almuerzo para tí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l es el nombre de ella/é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ómo se llama de tu gato o perro o animale domestico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l es tu color favorito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l es la fecha de ho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Cuál es el día de ho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5:02:28Z</dcterms:created>
  <dc:creator>Maple Lake</dc:creator>
  <dc:description/>
  <dc:language>en-US</dc:language>
  <cp:lastModifiedBy> </cp:lastModifiedBy>
  <dcterms:modified xsi:type="dcterms:W3CDTF">2009-09-30T15:07:59Z</dcterms:modified>
  <cp:revision>5</cp:revision>
  <dc:subject/>
  <dc:title>Repaso las preguntas (entre capítulos 2/3) </dc:title>
</cp:coreProperties>
</file>